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DC9-1F0F-4555-8481-5C846698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1C2-5465-4599-BD26-B79F1206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561-6091-43A6-A607-2A47507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344-3D12-4F47-9D9E-0BAA1F87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109-1B6C-44C4-B5A7-DE0CA6E8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B19-3F4B-4E28-8EDA-1B5E975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8F4-D8DB-4FB2-9DF0-CC1CA95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6AD-4A08-4EF4-91B6-8AB23DD8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91D-6383-42D1-A71A-B8BFF05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06C-46B3-42B6-9DC8-827C232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2D1-AE7C-497F-863E-4F1714F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4CB-C7A6-40A6-964A-C758EA8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1AF8-7D5F-4B96-85D6-D2E7F8BD5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Pere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10, Lesson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 16:19 - 17:10, John 11:1-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15-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ich man and Lazaru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uke 16:19-3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on earth, the rich man lived in splendor and Lazarus longed for scraps from the rich man’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y died, the rich man looked up and saw Abraham with his arm around Laza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ch man asked that Lazarus be sent to comfort hi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great canyon that cannot be cro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ch man asked for Lazarus to be sent to warn his br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his brothers would not listen to Moses and the prophets, they will not be convinced if someone rises from the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unprofitable servant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ke 17:1-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nses will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unto the person that causes another 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brother sins, rebuke him; and if he repents, forgive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give him seven times in a day if he rep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asked that their faith be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old them that if they had faith as small as a mustard seed, their ability would be un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have done what we are told, we have only done our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esus raises Lazarus from the dead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 11:1-4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and Martha notified Jesus that their brother, Lazarus, was s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said that the sickness was not unto death, but for the glory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waiting two days, Jesus stated that Lazarus slept and that he was going to awake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esus reached Bethany, Lazarus had been dead four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ha met Jesus along th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said that Lazarus would not have died if He had been t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w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called with a loud voice, “Lazarus, come forth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ffect of the raising of Lazaru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 11:45-5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f the Jews believed on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went to the Pharisees and told them what Jesus had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isees were concerned for their status an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stated that Jesus would die for the nation and not for the nation alone, but he did not realize the content of h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at point they planned to kill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7-14T23:28:57Z</dcterms:modified>
  <cp:revision>16</cp:revision>
  <dc:subject/>
  <dc:title>Life of Christ, Part 2 In Perea</dc:title>
</cp:coreProperties>
</file>